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8F8-6333-4829-BCE7-16FBA470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DA6F-4BFC-48A2-B80C-563319F8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F5A-1A19-4213-8CD3-9C24C0AE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2D80-CB0A-4EE8-A1EC-C04170FD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131E-8F46-431C-BA51-9753FB21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BBD2-A082-4228-BEA3-623528C5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3961-858B-4182-BFC2-98E1532A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F951-85E9-4E63-B7F8-62C97CE5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E232-65F0-46C9-A1BA-EDC923E2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4890-3148-4EA6-841E-4C209213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7F22-9038-4FD1-B585-402D86A8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B01C-C898-408F-9917-474D69DB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2B0E-4A9F-4A4C-B41D-03E2B212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3A3C-1BD4-4B3B-93BE-04C0D493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F5B1-A4B3-4088-9C28-0EAE3163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D295-88D2-42AF-8663-203FD66C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1592-F914-4DAD-86DE-26A9F7CFE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8C9-DC27-4C37-9E1A-75323441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17F-5DA4-4B64-B471-9954DD37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8CE-2FA1-45F2-9F76-5BDA64A5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C573-3D18-48E4-9DA7-AFF897A7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417-BB2B-41B2-87E3-B3BE8EAB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20DA-6451-43C2-819A-9A792594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E991-8241-464B-B138-6F41DF89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BA8D-B8C1-4DDD-9F06-375604F78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60B0-72C6-4013-A4FE-D1B16888A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2421000"/>
            <a:ext cx="82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пы сред обитан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способленность к н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5589720"/>
            <a:ext cx="43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шакова Л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Брединская СОШ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 и приспособленность к ней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–по-раз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ровнее, чем на воздух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-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пательны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або развиты органы чув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льно развито обоняние, осяз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наземно-воздуш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744720" cy="201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52908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3600360" cy="223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643280" y="3860640"/>
            <a:ext cx="3384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Кто занимает водную среду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20000" y="1844640"/>
            <a:ext cx="1908000" cy="20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2017800" cy="201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84360" y="1844640"/>
            <a:ext cx="2016360" cy="2017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19432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27746E-006 L -2.77778E-007 0.17826 E">
                                      <p:cBhvr>
                                        <p:cTn id="14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4.45087E-006 L -6.11111E-006 0.24115 E">
                                      <p:cBhvr>
                                        <p:cTn id="14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почвен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3628" t="21326" r="51755" b="32552"/>
          <a:stretch/>
        </p:blipFill>
        <p:spPr>
          <a:xfrm>
            <a:off x="179280" y="1916280"/>
            <a:ext cx="2024280" cy="2041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77080" y="1916280"/>
            <a:ext cx="2014560" cy="208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3280" y="1844640"/>
            <a:ext cx="2087640" cy="2089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340000" y="1916280"/>
            <a:ext cx="208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4509E-006 L -0.62222 0.38798 E">
                                      <p:cBhvr>
                                        <p:cTn id="15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63785 0.35653 E">
                                      <p:cBhvr>
                                        <p:cTn id="15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Выберите организмы, живущие в водной среде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020000" y="1628640"/>
            <a:ext cx="180000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643280" y="1628640"/>
            <a:ext cx="1800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7884 L 0.004 0.41433 E">
                                      <p:cBhvr>
                                        <p:cTn id="16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44509E-006 L -5.55556E-007 0.30404 E">
                                      <p:cBhvr>
                                        <p:cTn id="16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ыберите правильное утверждение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Летучие мыши населяют наземно-воздуш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У всех водных животных орган передвижения-плав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Изменение температуры воздуха - это фактор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Дельфин и акула имеют внешнее сходство, потому что населяют одну и ту же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Большинство насекомых занимает вод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Пиявки занимают водную среду об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На растения оказывают влияние только факторы неживой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У  крота плоские передние лапы с большими когтями, так как он живет в поч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114-1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162864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Среда обитания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это все то, что окружает организм и прямо или косвенно на него влия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68360" y="47628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кторы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3240" y="3130560"/>
            <a:ext cx="29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450864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не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360" y="3213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ятель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619280" y="1125360"/>
            <a:ext cx="165744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12536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1125360"/>
            <a:ext cx="1152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24000" y="33336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еда об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70028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емно-воздуш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1844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19162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76360" y="98100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98100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43640" y="981000"/>
            <a:ext cx="1368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2837" t="34236" r="27556" b="-378"/>
          <a:stretch/>
        </p:blipFill>
        <p:spPr>
          <a:xfrm>
            <a:off x="3203640" y="234936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2987640" cy="364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35640" y="3213000"/>
            <a:ext cx="2808360" cy="36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Наземно-воздушная среда обитания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3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300720" y="1916280"/>
            <a:ext cx="2374920" cy="230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268360" y="4581360"/>
            <a:ext cx="2232360" cy="2089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788000" y="4581360"/>
            <a:ext cx="2303280" cy="2089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232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- не всег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значительно 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нехватке воды- запас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топад, отлет птиц, смена шер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ивно передвигаются- бег, прыжки, по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одная среда обитания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376360" cy="2303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84720" y="1628640"/>
            <a:ext cx="2303640" cy="2233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63640" y="4221000"/>
            <a:ext cx="223200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427640" y="4221000"/>
            <a:ext cx="2376360" cy="230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419640" y="1628640"/>
            <a:ext cx="216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обитания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-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 не 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 – меняется мень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– не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способления для пла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ния живут у поверх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отные живут повсеме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Примеры животных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2055960"/>
            <a:ext cx="3662280" cy="3519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749" t="21029" r="50938" b="34889"/>
          <a:stretch/>
        </p:blipFill>
        <p:spPr>
          <a:xfrm>
            <a:off x="5003640" y="2060640"/>
            <a:ext cx="3529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3:38:18Z</dcterms:created>
  <dc:creator>User</dc:creator>
  <dc:description/>
  <dc:language>en-US</dc:language>
  <cp:lastModifiedBy>КарМаН</cp:lastModifiedBy>
  <dcterms:modified xsi:type="dcterms:W3CDTF">2011-11-02T13:20:23Z</dcterms:modified>
  <cp:revision>9</cp:revision>
  <dc:subject/>
  <dc:title>Слайд 1</dc:title>
</cp:coreProperties>
</file>